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916D-9D70-45A6-A74C-797A8549E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8D49-DD56-4754-988F-5519D1B63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B314-06AF-40F1-B79A-9A030F532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9547-3982-40C7-A227-A12AF55D8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1FC7F-DF2D-4B35-9B67-181ACD6629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AEFC3-940D-4F66-A929-7A53304770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D721A-986A-47BC-AD23-F58427B3CD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96AC1-2675-4512-8876-C116B9E0A8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83A66-556F-4447-9811-2F6F41BD9B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2B80D-8230-497E-AD4C-9D628250CC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D02D3-77BB-41D7-81B3-B4CB1A1B51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1463-2B4B-4C40-BC24-81C34E61E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37CD3-60DB-40E8-AA34-EC6BCEC3C3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1F175-CA5A-4049-A556-B81B897B67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F528C-AC05-4E43-AFB5-F08F904259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45ABE-A7A3-409F-940D-65010D98FA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5A04E-253A-41EB-95ED-16CA201BD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A42A-AEC6-4FBA-92E4-6097D04D1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B2F5-A7C3-4156-B0A8-249A33F58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F363-FD7B-4070-8C80-C68F4D41E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7CA5-BA06-42BD-8785-CDEE2C51B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74AA-E986-4074-977B-E109F58DA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5BBF-2CBC-4362-92F3-F7FCBF922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3B1D-A584-4B48-8015-722937883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19EB989-0D7A-4935-BF74-B162926C462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1AC006F-F708-4A6D-A7A2-95E4C0FC7E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0000" y="260280"/>
            <a:ext cx="290844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38040"/>
            <a:ext cx="250488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7B3F038-E913-487F-BF92-95054C2FB16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F60878A-7E7E-4792-9EB8-7D861712E2A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9-01-24T11:11:59Z</dcterms:modified>
  <cp:revision>257</cp:revision>
  <dc:subject/>
  <dc:title>8: SAMPLE SIZE DETERMINATION</dc:title>
</cp:coreProperties>
</file>